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E26-2C27-4A4A-9B45-203D1C9C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D41-EA03-4B2E-BDAD-8E7D4DE8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6F6-677D-47CA-ACE4-FFA3BA38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5176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7464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02852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65176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27464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7A4-3931-4DE3-99B2-FDC306EC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4C60C-D35F-4CCA-BE53-3DF89E3D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01E71-5D88-403D-A5CE-3AB456B5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05E04-6210-4074-A402-5835F143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B6392-4BCE-4527-9B59-F2203532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50F1B-3B76-46DD-8DA5-D9569F0D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10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EF3B0-B437-4783-9D96-E70CCCD3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1A8D9-52E0-44B6-912E-27AC8CB7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199-6DF9-42B1-8C69-FB9865F7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CD088-D042-4469-8A85-A4A0AC6D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10164-6559-4F94-832F-9FD2260B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8FB4E-91EC-46A1-B0BB-45B09C58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914C4-5173-4DFD-B8A1-BE80D16B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65176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27464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02852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65176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427464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164F3-AC1E-4526-B07C-2B2D97EE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BA5-0457-4BEB-A9E6-98D8FD5F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8C8-B4B6-464E-90E8-C149DC1C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B18-60D2-4FEB-9974-7BFB3FD3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10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AE5-2247-49C9-9B21-FD678A6C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339-DFA0-4DA9-B964-DDEF59DE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A29-C462-40AB-B4BF-4909E465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F7A-D474-415F-B7C4-D825D51C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1" name=""/>
            <p:cNvSpPr/>
            <p:nvPr/>
          </p:nvSpPr>
          <p:spPr>
            <a:xfrm>
              <a:off x="0" y="6502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686480" y="8350200"/>
            <a:ext cx="217152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026560"/>
            <a:ext cx="5886360" cy="1142280"/>
            <a:chOff x="0" y="8026560"/>
            <a:chExt cx="5886360" cy="1142280"/>
          </a:xfrm>
        </p:grpSpPr>
        <p:sp>
          <p:nvSpPr>
            <p:cNvPr id="5" name=""/>
            <p:cNvSpPr/>
            <p:nvPr/>
          </p:nvSpPr>
          <p:spPr>
            <a:xfrm>
              <a:off x="1771560" y="8026560"/>
              <a:ext cx="3857400" cy="11340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2959920" y="8026560"/>
              <a:ext cx="2926440" cy="1142280"/>
              <a:chOff x="2959920" y="8026560"/>
              <a:chExt cx="2926440" cy="1142280"/>
            </a:xfrm>
          </p:grpSpPr>
          <p:sp>
            <p:nvSpPr>
              <p:cNvPr id="7" name=""/>
              <p:cNvSpPr/>
              <p:nvPr/>
            </p:nvSpPr>
            <p:spPr>
              <a:xfrm>
                <a:off x="4700520" y="8041320"/>
                <a:ext cx="1185840" cy="1127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187080" y="8026560"/>
                <a:ext cx="221400" cy="8355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07200" y="8240040"/>
                <a:ext cx="450000" cy="5731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19280" y="818280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59920" y="816804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026560"/>
              <a:ext cx="4733640" cy="11322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14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C1A6-1D7C-4644-B749-091C4FC5A1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4680" y="27000"/>
            <a:ext cx="6858000" cy="9143640"/>
            <a:chOff x="-4680" y="27000"/>
            <a:chExt cx="6858000" cy="9143640"/>
          </a:xfrm>
        </p:grpSpPr>
        <p:sp>
          <p:nvSpPr>
            <p:cNvPr id="62" name=""/>
            <p:cNvSpPr/>
            <p:nvPr/>
          </p:nvSpPr>
          <p:spPr>
            <a:xfrm>
              <a:off x="-4680" y="6529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680" y="2700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1440" y="8358120"/>
            <a:ext cx="217188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8045280"/>
            <a:ext cx="5884200" cy="1134720"/>
            <a:chOff x="-1440" y="8045280"/>
            <a:chExt cx="5884200" cy="1134720"/>
          </a:xfrm>
        </p:grpSpPr>
        <p:sp>
          <p:nvSpPr>
            <p:cNvPr id="66" name=""/>
            <p:cNvSpPr/>
            <p:nvPr/>
          </p:nvSpPr>
          <p:spPr>
            <a:xfrm>
              <a:off x="1770120" y="8045280"/>
              <a:ext cx="3857760" cy="113472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958840" y="8045280"/>
              <a:ext cx="2923920" cy="1134360"/>
              <a:chOff x="2958840" y="8045280"/>
              <a:chExt cx="2923920" cy="1134360"/>
            </a:xfrm>
          </p:grpSpPr>
          <p:sp>
            <p:nvSpPr>
              <p:cNvPr id="68" name=""/>
              <p:cNvSpPr/>
              <p:nvPr/>
            </p:nvSpPr>
            <p:spPr>
              <a:xfrm>
                <a:off x="4699440" y="8060040"/>
                <a:ext cx="1183320" cy="11196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86000" y="8045280"/>
                <a:ext cx="221400" cy="8362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6120" y="8258760"/>
                <a:ext cx="450000" cy="5734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18200" y="820152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8840" y="8186760"/>
                <a:ext cx="49680" cy="1713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8045280"/>
              <a:ext cx="4734000" cy="11329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75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A784-72E9-4866-BB30-A73F602E3E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7920" y="21960"/>
            <a:ext cx="5545440" cy="83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ff"/>
                </a:solidFill>
                <a:uFillTx/>
                <a:latin typeface="Comic Sans MS"/>
              </a:rPr>
              <a:t>LE MEURTRE DE LA FALA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omic Sans MS"/>
              </a:rPr>
              <a:t>Synop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Samedi 3 Juin 2006 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Cet après-midi avait lieu l’enregistrement de l’émission  TV « Une soirée pour l’Entre-Aide », en faveur des handicapés physiqu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Un vrai carton !! Tous les records d’audimats vont être battu grâce à l’animateur vedette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Michel Delerme, 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et à la présence sur le plateau, de nombreux artistes dont le célèbre chanteur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Dany Gaccho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 et de sa femme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Marie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, qui  est en fauteuil roula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Un grand cocktail est organisé à 18h, chez Dany et Marie, dans leur villa qui longe la cô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Alors que la fête bat son plein, Marie disparaît pendant quelques heu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Il commence à faire froid et il y a un vent terrib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ers 20h, Michel Delerme part à sa recherche… il revient épouvanté… il vient de retrouver le corps de Marie sans vie… son fauteuil a été poussé de la falais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A vous de jouer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Bonne mur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16:53:36Z</dcterms:created>
  <dc:creator>Mulder</dc:creator>
  <dc:description/>
  <dc:language>en-US</dc:language>
  <cp:lastModifiedBy>Mulder</cp:lastModifiedBy>
  <dcterms:modified xsi:type="dcterms:W3CDTF">2006-05-20T08:09:47Z</dcterms:modified>
  <cp:revision>3</cp:revision>
  <dc:subject/>
  <dc:title>Diapositive 1</dc:title>
</cp:coreProperties>
</file>